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E34-9817-405B-8C95-EFD812E2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AE84-0D26-4E46-99F0-082C0904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DC5-95D7-4C9E-A587-C54C9908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BDD4-7540-4EBD-BF58-CB803355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5855-AC01-4ED0-9F48-78CB4031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8F28-6F5C-47CC-900F-90C91531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5930-3F44-4D77-B354-2F71BE64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62EB-CE9A-4BCC-8A80-7DEA8142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CCA9-816B-4139-A23E-F14ECA36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E005-5A49-41F8-A6D7-7630F00E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568A-A06E-439D-9C31-05228B79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2D58-8E40-4E7B-86F1-E93B0CCC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A64C-50B9-4D74-B3C2-CE52E5FF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DE20-69E8-4BAF-B1A3-C1E74715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9FCD-229B-4661-BD8A-32D18F2B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4234-99FD-4625-9655-7A375B23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7F0C-583A-4552-B160-41BF73FA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47C24-2610-431B-BD14-303AA2BD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2219F-FAFA-48A4-8EF0-163A4B17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5253B-ED6B-4295-84CB-AF430CC4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CBE77-EC15-4AF2-A429-FFC0261C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21D5E-8C6C-4C7C-8278-9776BD91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40F-2D4E-4676-924A-A6A418E1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BDA9E-F412-4444-81FC-F15DDE3E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B1C5E-8918-47A0-AE13-8B5FAA31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14A52-A68C-455D-A003-46545AA1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38630-DAB4-4CD0-A5BB-5E93300D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B4891-3D83-4CF3-8289-0ABAF564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0FAE7-66D0-48B9-9C76-D704F9DC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30A32-08E6-46A1-B05B-29F6C119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65175-49DF-4EAD-948C-34DD4736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0E2CC-111B-4B0C-92B2-BBE26E67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80684-A925-4158-A5EF-F1A052F5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498-5157-4597-A1BB-E103AEAF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F7C78-EF0A-4284-840A-1DDF65FD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D629B-A89B-4EA3-AD2A-A62F0359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42ACC-5955-4605-B35C-11D0AFC0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0B283-A87D-478D-93C7-6EA336CE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B806B-5276-44F4-87D9-43AA9727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ADAD4-C8FF-4F38-9C2B-C90F38AB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865F9-C02A-424C-88DD-6842ACBA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A8F76-1CB8-4A6F-8D8B-91EEE9F6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7CB33-C4D1-471F-AC1B-2A5F2865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EE575-884A-414D-A8F1-BD86FADD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7A6B-BAAE-4898-9E83-5D6704C9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3F515-3BB1-4697-AFB2-FB921F70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BEB2E-027B-4E78-896D-149A059B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843B9-2FC4-4570-AE13-CE670E38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44D39-8624-42FF-AB96-B21C1BE3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98E71-FDF4-4AB2-9E5F-CBF11165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D7C39-4DB0-4990-8F34-27B1734A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2F19B-0548-4042-8392-60A3A51B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96B73-12B2-4C13-AC49-0256A449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F209C-395A-4238-B649-E5863175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0BF6C-B97C-4431-97CE-6BA81C83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2A6-21F0-4B50-B925-FF460781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D5E3C-000C-4987-82C3-1AA272BD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CA424-0DF0-42DD-92D6-337B9757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7EFFA-EAFE-4697-81CA-925BD56C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C14EF-CD5E-4108-8AA3-5DF0E5F1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4D882-2425-430C-9635-B5FA2CE9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C491E-C767-474C-AE43-D107147B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33835-0E9C-424D-B023-CB190ED6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7D074-5975-4C4D-8007-03A8F1CC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3CC5E-716D-40CF-92E8-B21EC31F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D70C3-E70D-42F0-AE14-B58969CE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0211-5061-4C57-8948-47A576F8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D3B70-9050-4655-B2BA-FD7C8D98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53259-0651-4D72-92FB-46AB5E17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F5103-BB15-42B9-A42D-3F25A42C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B1050-5594-40A0-BC9D-D94125F3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EEBDB-3935-4176-84F0-6E410933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367B2-0B1D-415E-997E-1288F97E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AEBD6-82F5-45DF-9B6C-9109B8C3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63487-1946-4F2B-8014-30A502C7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8CCC1-D28C-4969-8606-495250B7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99946-93B2-49F3-AA57-0BBBC554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F71-B415-4205-8C86-4CB5C0D6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F722A-B74A-4361-8232-732A975F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5852B-0F24-49D7-B4B0-CF652BBD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1938A-D915-4D9E-A2A3-FDADA74E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A9554-4681-4AEB-9E9B-004B3564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61B44-D89C-4227-A41E-8231111F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AE1-020D-432C-94FB-91B1D058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45B1-BCFD-4299-B666-581274B2185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8302-6E2B-435F-B9DA-6829DD93355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C078-E5DD-495E-888C-6A6FBA87DA5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1240-4458-48F6-BFA3-1C78E112776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0A56-5FF5-43CC-B69E-017E77B2425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0D54-642C-4C84-9758-C93A2FE8C6A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29DD-7266-40E4-A45C-0D9B5587998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0" descr="01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4026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11617"/>
                </a:solidFill>
                <a:latin typeface="Arial"/>
              </a:rPr>
              <a:t>Технологии креативного мышления</a:t>
            </a:r>
            <a:br>
              <a:rPr sz="3600"/>
            </a:br>
            <a:br>
              <a:rPr sz="4800"/>
            </a:br>
            <a:r>
              <a:rPr b="1" lang="ru-RU" sz="4800" spc="-1" strike="noStrike">
                <a:solidFill>
                  <a:srgbClr val="425519"/>
                </a:solidFill>
                <a:latin typeface="Arial"/>
              </a:rPr>
              <a:t> «Шесть шляп, или Наследство старого Мастера»</a:t>
            </a:r>
            <a:br>
              <a:rPr sz="4800"/>
            </a:br>
            <a:endParaRPr b="0" lang="en-US" sz="48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4267080" y="50292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Главное:</a:t>
            </a:r>
            <a:r>
              <a:rPr b="1" lang="ru-RU" sz="4000" spc="-1" strike="noStrike">
                <a:solidFill>
                  <a:srgbClr val="425519"/>
                </a:solidFill>
                <a:latin typeface="Arial"/>
              </a:rPr>
              <a:t> метод даёт возможность определять правила игры, а изучение правил является одной из самых перспективных форм накопления знаний в детские год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85440" y="1447560"/>
            <a:ext cx="8248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232d47"/>
                </a:solidFill>
                <a:latin typeface="Times New Roman"/>
              </a:rPr>
              <a:t>В методе шести шляп </a:t>
            </a: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мышление делится на шесть различных режимов</a:t>
            </a:r>
            <a:r>
              <a:rPr b="0" lang="ru-RU" sz="4400" spc="-1" strike="noStrike">
                <a:solidFill>
                  <a:srgbClr val="232d47"/>
                </a:solidFill>
                <a:latin typeface="Times New Roman"/>
              </a:rPr>
              <a:t>, каждый из которых представлен шляпой своего цвета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232d47"/>
                </a:solidFill>
                <a:latin typeface="Arial"/>
              </a:rPr>
              <a:t>Белая шляпа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350" name="Picture 4" descr="whitehat"/>
          <p:cNvPicPr/>
          <p:nvPr/>
        </p:nvPicPr>
        <p:blipFill>
          <a:blip r:embed="rId1"/>
          <a:stretch/>
        </p:blipFill>
        <p:spPr>
          <a:xfrm>
            <a:off x="1295280" y="1828800"/>
            <a:ext cx="2025720" cy="29718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6"/>
          <p:cNvSpPr/>
          <p:nvPr/>
        </p:nvSpPr>
        <p:spPr>
          <a:xfrm>
            <a:off x="3886200" y="1447920"/>
            <a:ext cx="4800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Информация. Вопросы. Какой мы обладаем информацией? Какая нам нужна информация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Arial"/>
              </a:rPr>
              <a:t>Красная шляпа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4b2203"/>
                </a:solidFill>
                <a:latin typeface="Arial"/>
              </a:rPr>
              <a:t>Эмоции. Интуиция, чувства и предчувствия. Не требуется давать обоснование чувствам. Какие у меня по этому поводу возникают чувства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4" descr="redhat"/>
          <p:cNvPicPr/>
          <p:nvPr/>
        </p:nvPicPr>
        <p:blipFill>
          <a:blip r:embed="rId1"/>
          <a:stretch/>
        </p:blipFill>
        <p:spPr>
          <a:xfrm>
            <a:off x="533520" y="1447920"/>
            <a:ext cx="297180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Arial"/>
              </a:rPr>
              <a:t>Чёрная шляпа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blackhat"/>
          <p:cNvPicPr/>
          <p:nvPr/>
        </p:nvPicPr>
        <p:blipFill>
          <a:blip r:embed="rId2"/>
          <a:stretch/>
        </p:blipFill>
        <p:spPr>
          <a:xfrm>
            <a:off x="1490760" y="2971800"/>
            <a:ext cx="1828800" cy="21337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6"/>
          <p:cNvSpPr/>
          <p:nvPr/>
        </p:nvSpPr>
        <p:spPr>
          <a:xfrm>
            <a:off x="3733920" y="1981080"/>
            <a:ext cx="4724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Осторожность. Суждение. Оценка. Правда ли это? Сработает ли это? В чем недостатки? Что здесь неправильн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00"/>
                </a:solidFill>
                <a:latin typeface="Arial"/>
              </a:rPr>
              <a:t>Жёлтая шляпа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657600" y="17521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425519"/>
                </a:solidFill>
                <a:latin typeface="Times New Roman"/>
              </a:rPr>
              <a:t>Преимущества. Почему это стоит сделать? Каковы преимущества? Почему это можно сделать? Почему это сработает?</a:t>
            </a:r>
            <a:r>
              <a:rPr b="0" lang="ru-RU" sz="3600" spc="-1" strike="noStrike">
                <a:solidFill>
                  <a:srgbClr val="42551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5" descr="yellowhat"/>
          <p:cNvPicPr/>
          <p:nvPr/>
        </p:nvPicPr>
        <p:blipFill>
          <a:blip r:embed="rId1"/>
          <a:stretch/>
        </p:blipFill>
        <p:spPr>
          <a:xfrm>
            <a:off x="1023840" y="2514600"/>
            <a:ext cx="2252880" cy="26668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6"/>
          <p:cNvSpPr/>
          <p:nvPr/>
        </p:nvSpPr>
        <p:spPr>
          <a:xfrm>
            <a:off x="3809880" y="351648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25519"/>
                </a:solidFill>
                <a:latin typeface="Arial"/>
              </a:rPr>
              <a:t>Зелёная шляпа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4b2203"/>
                </a:solidFill>
                <a:latin typeface="Times New Roman"/>
              </a:rPr>
              <a:t>Творчество. Различные идеи. Новые идеи. Предложения. Каковы некоторые из возможных решений и действий? Каковы альтернативы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7" descr="greenhat"/>
          <p:cNvPicPr/>
          <p:nvPr/>
        </p:nvPicPr>
        <p:blipFill>
          <a:blip r:embed="rId1"/>
          <a:stretch/>
        </p:blipFill>
        <p:spPr>
          <a:xfrm>
            <a:off x="1197000" y="2286000"/>
            <a:ext cx="2900160" cy="298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232d47"/>
                </a:solidFill>
                <a:latin typeface="Arial"/>
              </a:rPr>
              <a:t>Синяя шляпа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276720" y="1447560"/>
            <a:ext cx="54100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4b2203"/>
                </a:solidFill>
                <a:latin typeface="Arial"/>
              </a:rPr>
              <a:t>Организация мышления. Мышление о мышлении. Чего мы достигли? Что нужно сделать дальше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5" descr="bluehat"/>
          <p:cNvPicPr/>
          <p:nvPr/>
        </p:nvPicPr>
        <p:blipFill>
          <a:blip r:embed="rId1"/>
          <a:stretch/>
        </p:blipFill>
        <p:spPr>
          <a:xfrm>
            <a:off x="804960" y="2362320"/>
            <a:ext cx="254772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666520" y="46479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3808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500" spc="-1" strike="noStrike">
                <a:solidFill>
                  <a:srgbClr val="232d47"/>
                </a:solidFill>
                <a:latin typeface="Times New Roman"/>
              </a:rPr>
              <a:t>Технология </a:t>
            </a:r>
            <a:r>
              <a:rPr b="1" lang="en-US" sz="2500" spc="-1" strike="noStrike">
                <a:solidFill>
                  <a:srgbClr val="232d47"/>
                </a:solidFill>
                <a:latin typeface="Book Antiqua"/>
              </a:rPr>
              <a:t>«</a:t>
            </a:r>
            <a:r>
              <a:rPr b="1" lang="ru-RU" sz="2500" spc="-1" strike="noStrike">
                <a:solidFill>
                  <a:srgbClr val="232d47"/>
                </a:solidFill>
                <a:latin typeface="Times New Roman"/>
              </a:rPr>
              <a:t>Шесть шляп мышления</a:t>
            </a:r>
            <a:r>
              <a:rPr b="1" lang="en-US" sz="2500" spc="-1" strike="noStrike">
                <a:solidFill>
                  <a:srgbClr val="232d47"/>
                </a:solidFill>
                <a:latin typeface="Book Antiqua"/>
              </a:rPr>
              <a:t>»</a:t>
            </a:r>
            <a:r>
              <a:rPr b="1" lang="ru-RU" sz="2500" spc="-1" strike="noStrike">
                <a:solidFill>
                  <a:srgbClr val="232d47"/>
                </a:solidFill>
                <a:latin typeface="Times New Roman"/>
              </a:rPr>
              <a:t> Эдварда де Боно позволяет развивать у взрослых и детей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1600200" y="3048120"/>
            <a:ext cx="7162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4b22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203"/>
                </a:solidFill>
                <a:latin typeface="Arial"/>
              </a:rPr>
              <a:t>творческое мыш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b22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203"/>
                </a:solidFill>
                <a:latin typeface="Arial"/>
              </a:rPr>
              <a:t>критическое мыш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b22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203"/>
                </a:solidFill>
                <a:latin typeface="Arial"/>
              </a:rPr>
              <a:t>толера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11"/>
          <p:cNvGrpSpPr/>
          <p:nvPr/>
        </p:nvGrpSpPr>
        <p:grpSpPr>
          <a:xfrm>
            <a:off x="304920" y="380880"/>
            <a:ext cx="8578800" cy="1066680"/>
            <a:chOff x="304920" y="380880"/>
            <a:chExt cx="8578800" cy="1066680"/>
          </a:xfrm>
        </p:grpSpPr>
        <p:pic>
          <p:nvPicPr>
            <p:cNvPr id="373" name="Picture 5" descr="redhat"/>
            <p:cNvPicPr/>
            <p:nvPr/>
          </p:nvPicPr>
          <p:blipFill>
            <a:blip r:embed="rId1"/>
            <a:stretch/>
          </p:blipFill>
          <p:spPr>
            <a:xfrm>
              <a:off x="304920" y="380880"/>
              <a:ext cx="11430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6" descr="whitehat"/>
            <p:cNvPicPr/>
            <p:nvPr/>
          </p:nvPicPr>
          <p:blipFill>
            <a:blip r:embed="rId2"/>
            <a:stretch/>
          </p:blipFill>
          <p:spPr>
            <a:xfrm>
              <a:off x="1730520" y="380880"/>
              <a:ext cx="1143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7" descr="blackhat"/>
            <p:cNvPicPr/>
            <p:nvPr/>
          </p:nvPicPr>
          <p:blipFill>
            <a:blip r:embed="rId3"/>
            <a:stretch/>
          </p:blipFill>
          <p:spPr>
            <a:xfrm>
              <a:off x="3156120" y="380880"/>
              <a:ext cx="11430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8" descr="yellowhat"/>
            <p:cNvPicPr/>
            <p:nvPr/>
          </p:nvPicPr>
          <p:blipFill>
            <a:blip r:embed="rId4"/>
            <a:stretch/>
          </p:blipFill>
          <p:spPr>
            <a:xfrm>
              <a:off x="4583160" y="380880"/>
              <a:ext cx="11430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9" descr="greenhat"/>
            <p:cNvPicPr/>
            <p:nvPr/>
          </p:nvPicPr>
          <p:blipFill>
            <a:blip r:embed="rId5"/>
            <a:stretch/>
          </p:blipFill>
          <p:spPr>
            <a:xfrm>
              <a:off x="6008760" y="380880"/>
              <a:ext cx="129528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10" descr="bluehat"/>
            <p:cNvPicPr/>
            <p:nvPr/>
          </p:nvPicPr>
          <p:blipFill>
            <a:blip r:embed="rId6"/>
            <a:stretch/>
          </p:blipFill>
          <p:spPr>
            <a:xfrm>
              <a:off x="7588440" y="380880"/>
              <a:ext cx="129528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Object 2"/>
          <p:cNvGraphicFramePr/>
          <p:nvPr/>
        </p:nvGraphicFramePr>
        <p:xfrm>
          <a:off x="723960" y="457200"/>
          <a:ext cx="788652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457200"/>
                    <a:ext cx="78865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Цель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здать представление о технологии Эдварда де Бон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Шесть шляп мышления»</a:t>
            </a:r>
            <a:endParaRPr b="0" lang="en-US" sz="24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218960" y="1523880"/>
            <a:ext cx="34290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25519"/>
                </a:solidFill>
                <a:latin typeface="Arial"/>
              </a:rPr>
              <a:t>Задача минимум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5519"/>
                </a:solidFill>
                <a:latin typeface="Arial"/>
              </a:rPr>
              <a:t>овладеть приёмами представленной техн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5519"/>
                </a:solidFill>
                <a:latin typeface="Arial"/>
              </a:rPr>
              <a:t>повысить уровень качества методики построения урок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5519"/>
                </a:solidFill>
                <a:latin typeface="Arial"/>
              </a:rPr>
              <a:t>научить учащихся эффективно мыслить, решать и действов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952880" y="1523880"/>
            <a:ext cx="3981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b2203"/>
                </a:solidFill>
                <a:latin typeface="Arial"/>
              </a:rPr>
              <a:t>Задача максимум: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b2203"/>
                </a:solidFill>
                <a:latin typeface="Arial"/>
              </a:rPr>
              <a:t>научиться эффективно управлять своим мышлением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b2203"/>
                </a:solidFill>
                <a:latin typeface="Arial"/>
              </a:rPr>
              <a:t>научиться преодолевать беспорядочность, стихийность течения мыслей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b2203"/>
                </a:solidFill>
                <a:latin typeface="Arial"/>
              </a:rPr>
              <a:t>в нужных ситуациях уметь отделить логику от эмоций, желаемое от действительного, фантазии от фактов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Основные принципы его развития</a:t>
            </a:r>
            <a:br>
              <a:rPr sz="4000"/>
            </a:br>
            <a:endParaRPr b="0" lang="en-US" sz="36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325" name="Picture 7" descr="Edward_de_Bono"/>
          <p:cNvPicPr/>
          <p:nvPr/>
        </p:nvPicPr>
        <p:blipFill>
          <a:blip r:embed="rId1"/>
          <a:stretch/>
        </p:blipFill>
        <p:spPr>
          <a:xfrm>
            <a:off x="1228680" y="2057400"/>
            <a:ext cx="2776680" cy="40384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3962160" y="1523880"/>
            <a:ext cx="49719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выделение необходимых и достаточных условий решения задач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развитие способности к отказу от прежнего опыта решения аналогичных задач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развитие способности к видению различных аспектов одного явления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развитие способности к выделению и осознанию основного противоречия в проблем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развитие способности к «объединению противоположностей» и использование данного ресурса для решения задач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Что такое «Шесть шляп мышления»?</a:t>
            </a:r>
            <a:endParaRPr b="0" lang="en-US" sz="36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328" name="Picture 6" descr="popurry_10323big"/>
          <p:cNvPicPr/>
          <p:nvPr/>
        </p:nvPicPr>
        <p:blipFill>
          <a:blip r:embed="rId1"/>
          <a:stretch/>
        </p:blipFill>
        <p:spPr>
          <a:xfrm>
            <a:off x="1123920" y="1752480"/>
            <a:ext cx="2838600" cy="385776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7"/>
          <p:cNvSpPr/>
          <p:nvPr/>
        </p:nvSpPr>
        <p:spPr>
          <a:xfrm>
            <a:off x="4267080" y="1828800"/>
            <a:ext cx="4191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203"/>
                </a:solidFill>
                <a:latin typeface="Arial"/>
              </a:rPr>
              <a:t>Это - 6 различных режимов, рамками которых человек может очертить процесс своего мышления в тот или иной момент, исходя из обстоятельств любой конкретной ситуации в быту или бизнесе, чтобы направить её развитие в лучшую сторону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32d47"/>
                </a:solidFill>
                <a:latin typeface="Arial"/>
              </a:rPr>
              <a:t>Концепция «Шести шляп»</a:t>
            </a:r>
            <a:endParaRPr b="0" lang="en-US" sz="40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b2203"/>
                </a:solidFill>
                <a:latin typeface="Arial"/>
              </a:rPr>
              <a:t>Это - простой, но эффективный метод, позволяющий стать лучшим мыслителем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b2203"/>
                </a:solidFill>
                <a:latin typeface="Arial"/>
              </a:rPr>
              <a:t>Боно разделяет мышление на шесть отличных друг от друга режимов, обозначенных шляпами разного цвета. «Надевание» шляпы фокусирует мышление, «смена» шляпы изменяет его направление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b2203"/>
                </a:solidFill>
                <a:latin typeface="Arial"/>
              </a:rPr>
              <a:t>Когда разные части мыслительного процесса четко определены, мышление может стать более сосредоточенным и продуктивным.</a:t>
            </a:r>
            <a:r>
              <a:rPr b="0" lang="ru-RU" sz="2200" spc="-1" strike="noStrike">
                <a:solidFill>
                  <a:srgbClr val="4b220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b2203"/>
                </a:solidFill>
                <a:latin typeface="Arial"/>
              </a:rPr>
              <a:t>Используя в качестве примеров ситуации из реальной жизни, доктор де Боно создает сценарии, которые показывают, как эффективнее использовать шляпы мышлен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b2203"/>
                </a:solidFill>
                <a:latin typeface="Arial"/>
              </a:rPr>
              <a:t>Концепции Эдварда де Боно применяются крупнейшими корпорациями мира. «Шесть шляп мышления» ясно иллюстрирует, почему они сочли важным применить эти идеи в своих техниках менеджмент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2d47"/>
                </a:solidFill>
                <a:latin typeface="Arial"/>
              </a:rPr>
              <a:t>Шесть шляп – метод тренировки группового мышления</a:t>
            </a:r>
            <a:endParaRPr b="0" lang="en-US" sz="36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Особенности группового мышл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</a:rPr>
              <a:t>Почему решение сложных проблем зачастую проще осуществлять индивидуально, а не в команде. Что мешает максимально эффективно использовать потенциал всех участников коман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Принципы параллельного мышл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</a:rPr>
              <a:t>Как улучшить коммуникацию в команд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Концепция Шести Шляп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</a:rPr>
              <a:t>Какие существуют типы мышления. Почему необходимо использовать все типы. Как структурировать и организовать групповое мышл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Использование последовательностей Шести Шляп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</a:rPr>
              <a:t>Каковы эффективные последовательности типов мышления. Как пользоваться инструментами группового мыш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Индивидуальное использование Шести Шляп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</a:rPr>
              <a:t>Как быстро найти эффективное решение, взглянув на ситуацию "под другим углом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Системное использование Шляп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</a:rPr>
              <a:t>Как управлять групповым мышлени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2060"/>
                </a:solidFill>
                <a:latin typeface="Arial"/>
              </a:rPr>
              <a:t>Почему «Шесть шляп»?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8951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о-первых</a:t>
            </a:r>
            <a:r>
              <a:rPr b="0" lang="ru-RU" sz="2800" spc="-1" strike="noStrike">
                <a:solidFill>
                  <a:srgbClr val="713204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4b2203"/>
                </a:solidFill>
                <a:latin typeface="Arial"/>
              </a:rPr>
              <a:t> каждой из шести шляп соответствует свой собственный, индивидуальный цвет, делающий её легко различимой среди всех остальных,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этому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4b2203"/>
                </a:solidFill>
                <a:latin typeface="Arial"/>
              </a:rPr>
              <a:t> меняя шляпу, мы «дирижируем оркестром своих мыслей», придаём им нужное направл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4" descr="redhat"/>
          <p:cNvPicPr/>
          <p:nvPr/>
        </p:nvPicPr>
        <p:blipFill>
          <a:blip r:embed="rId1"/>
          <a:stretch/>
        </p:blipFill>
        <p:spPr>
          <a:xfrm>
            <a:off x="533520" y="1447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whitehat"/>
          <p:cNvPicPr/>
          <p:nvPr/>
        </p:nvPicPr>
        <p:blipFill>
          <a:blip r:embed="rId2"/>
          <a:stretch/>
        </p:blipFill>
        <p:spPr>
          <a:xfrm>
            <a:off x="533520" y="24382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blackhat"/>
          <p:cNvPicPr/>
          <p:nvPr/>
        </p:nvPicPr>
        <p:blipFill>
          <a:blip r:embed="rId3"/>
          <a:stretch/>
        </p:blipFill>
        <p:spPr>
          <a:xfrm>
            <a:off x="533520" y="335268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yellowhat"/>
          <p:cNvPicPr/>
          <p:nvPr/>
        </p:nvPicPr>
        <p:blipFill>
          <a:blip r:embed="rId4"/>
          <a:stretch/>
        </p:blipFill>
        <p:spPr>
          <a:xfrm>
            <a:off x="533520" y="4343400"/>
            <a:ext cx="1143000" cy="10666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greenhat"/>
          <p:cNvPicPr/>
          <p:nvPr/>
        </p:nvPicPr>
        <p:blipFill>
          <a:blip r:embed="rId5"/>
          <a:stretch/>
        </p:blipFill>
        <p:spPr>
          <a:xfrm>
            <a:off x="1676520" y="2438280"/>
            <a:ext cx="1295280" cy="990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bluehat"/>
          <p:cNvPicPr/>
          <p:nvPr/>
        </p:nvPicPr>
        <p:blipFill>
          <a:blip r:embed="rId6"/>
          <a:stretch/>
        </p:blipFill>
        <p:spPr>
          <a:xfrm>
            <a:off x="1676520" y="3429000"/>
            <a:ext cx="1295280" cy="9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676160" y="914400"/>
            <a:ext cx="6933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о-вторых</a:t>
            </a:r>
            <a:r>
              <a:rPr b="1" lang="ru-RU" sz="3600" spc="-1" strike="noStrike">
                <a:solidFill>
                  <a:srgbClr val="713204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4b2203"/>
                </a:solidFill>
                <a:latin typeface="Arial"/>
              </a:rPr>
              <a:t> шляпу очень легко надеть и снять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b2203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оэтому</a:t>
            </a:r>
            <a:r>
              <a:rPr b="1" lang="ru-RU" sz="3600" spc="-1" strike="noStrike">
                <a:solidFill>
                  <a:srgbClr val="4b2203"/>
                </a:solidFill>
                <a:latin typeface="Arial"/>
              </a:rPr>
              <a:t> надевание «мыслеварительной» шляпы призвано помочь человеку обрести спокойное состояние, сосредоточиться на выполнении определённых мыслительных операци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904760" y="609120"/>
            <a:ext cx="6629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-третьих,</a:t>
            </a:r>
            <a:r>
              <a:rPr b="1" lang="ru-RU" sz="3200" spc="-1" strike="noStrike">
                <a:solidFill>
                  <a:srgbClr val="4b2203"/>
                </a:solidFill>
                <a:latin typeface="Arial"/>
              </a:rPr>
              <a:t> «Шляпы мышления» дают структуру для использования параллельного мышления и ухода от споров, отнимающих время без всякой пользы, помогают договориться с собеседником, прийти к соглас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мсонова</dc:creator>
  <dc:description/>
  <dc:language>en-US</dc:language>
  <cp:lastModifiedBy>ирина</cp:lastModifiedBy>
  <dcterms:modified xsi:type="dcterms:W3CDTF">2012-11-05T16:49:07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